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DD36-3A34-49BD-B603-9E6367BE92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893c"/>
                </a:solidFill>
                <a:latin typeface="Calibri"/>
              </a:rPr>
              <a:t>Тема урока: </a:t>
            </a:r>
            <a:br>
              <a:rPr sz="1200"/>
            </a:br>
            <a:r>
              <a:rPr b="1" i="1" lang="ru-RU" sz="1200" spc="-1" strike="noStrike">
                <a:solidFill>
                  <a:srgbClr val="19893c"/>
                </a:solidFill>
                <a:latin typeface="Calibri"/>
              </a:rPr>
              <a:t>«Право на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893c"/>
                </a:solidFill>
                <a:latin typeface="Calibri"/>
              </a:rPr>
              <a:t>Домой: </a:t>
            </a:r>
            <a:r>
              <a:rPr b="1" lang="en-US" sz="1600" spc="-1" strike="noStrike">
                <a:solidFill>
                  <a:srgbClr val="19893c"/>
                </a:solidFill>
                <a:latin typeface="Calibri"/>
                <a:ea typeface="Arial"/>
              </a:rPr>
              <a:t>§</a:t>
            </a:r>
            <a:r>
              <a:rPr b="1" lang="ru-RU" sz="1600" spc="-1" strike="noStrike">
                <a:solidFill>
                  <a:srgbClr val="19893c"/>
                </a:solidFill>
                <a:latin typeface="Calibri"/>
                <a:ea typeface="Arial"/>
              </a:rPr>
              <a:t> 4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8E27-16C7-4D4B-9CAD-F284A8E2C7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6600"/>
                </a:solidFill>
                <a:uFillTx/>
                <a:latin typeface="Calibri"/>
              </a:rPr>
              <a:t>Общеобразовательные учрежде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учреждения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начальная 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реждения основ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</a:rPr>
              <a:t>национальная </a:t>
            </a: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лиц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учебно-воспитательный комплек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Экстерна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2174-2A15-4DAD-AF4F-E939DBF97E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(полного)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школа с углубленным изучением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и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43D9-6289-4A48-BB0B-25CA6D986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е общее образование обязатель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0FC7-8A86-4235-AB72-400FF3EB02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оссии устанавливаются следующие уровни профессионального  образ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н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вузовск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4590-7E08-4428-A3DC-154E3242D5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Учреждения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начальн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ессиональны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чески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олле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049B-887B-41C9-A0D6-4E87D9CDFA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высш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акаде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федеральный 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послевузовск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 повышения квалификации по отрас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A165-B264-4801-90E4-A82187391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5008"/>
                </a:solidFill>
                <a:latin typeface="Calibri"/>
              </a:rPr>
              <a:t>Нормативная осн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 продекларировано в статье 26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общей декларации прав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креплено в статьях 13 и 14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ого пакта об экономических, социальных и культурных пра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татьях 28 и 29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венции о правах ребё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статье 2 Первого протокола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вропейской Конвенции о защите прав человека и основных своб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еплено в статье 4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итуции Рос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F472-3D4A-4CEB-A772-7355D92ECC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типы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A781-AEF9-42A2-80B6-2E580D912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но ст. 43 Конституции РФ, каждый имеет право на образ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   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F8B7-51F0-48C6-B671-CD97CA630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89FD-77EB-450A-BEC1-28D6B92632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3218-7F68-4EF9-8F9A-F8506629D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Формы получения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чно-заочной (вечерней)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за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в форме семейного образования (с 1992г.), самообразования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экстер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интенсивно развивается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дистанционное образовани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ется сочетание различных форм получения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0FE4-B1ED-4898-86AB-9F8C21EEB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Типы образовательных учреждений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 u="sng">
                <a:solidFill>
                  <a:srgbClr val="0d5008"/>
                </a:solidFill>
                <a:uFillTx/>
                <a:latin typeface="Calibri"/>
              </a:rPr>
              <a:t>Дошкольные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ед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я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CD85-A389-48CB-8692-B9B539E6A0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Общее образование</a:t>
            </a:r>
            <a:br>
              <a:rPr sz="2000"/>
            </a:b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 включает в себя три ступен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чальное образование —  с 1 по 4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основное  общее образование —  с 5 по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реднее (полное) общее образование —10 и 11 класс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продолжительность обучения в средней школе составляет 11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3093-CFBF-4EFA-A512-C13A663433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255-3693-493A-9824-A0A615DA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623-6FDD-4147-B869-F06D4EDF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5CE-C7BD-41C5-8F8B-27F60CB1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4D3E-A690-4C7B-960A-30B06C1E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50B-BA80-4923-B1A6-92305B49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AB5-0161-4E06-AAD5-E54687D8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5C8-56C3-4EE6-A7E9-75E5E495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D9E-32EB-49BB-9078-E0DB8B41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883-C127-48E8-BB3B-66F3B9D4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D7D-4226-42E6-AC7C-63C212BA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5C9-FA21-4D0F-BE01-4A91A88E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B4A-CD45-49B0-BD6A-672628A3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abc"/>
            </a:gs>
            <a:gs pos="100000">
              <a:srgbClr val="c0e8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2EFD-DF62-41BF-BCA4-CAAD9219FF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9360">
            <a:solidFill>
              <a:srgbClr val="0d500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893c"/>
                </a:solidFill>
                <a:latin typeface="Arial"/>
              </a:rPr>
              <a:t>Тема урока: </a:t>
            </a:r>
            <a:br>
              <a:rPr sz="4400"/>
            </a:br>
            <a:r>
              <a:rPr b="1" i="1" lang="ru-RU" sz="4400" spc="-1" strike="noStrike">
                <a:solidFill>
                  <a:srgbClr val="19893c"/>
                </a:solidFill>
                <a:latin typeface="Arial"/>
              </a:rPr>
              <a:t>«Право на образова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4437000"/>
            <a:ext cx="6369120" cy="935280"/>
          </a:xfrm>
          <a:prstGeom prst="rect">
            <a:avLst/>
          </a:prstGeom>
          <a:gradFill rotWithShape="0">
            <a:gsLst>
              <a:gs pos="0">
                <a:srgbClr val="efefaf"/>
              </a:gs>
              <a:gs pos="100000">
                <a:srgbClr val="a3ffa3"/>
              </a:gs>
            </a:gsLst>
            <a:lin ang="5400000"/>
          </a:gradFill>
          <a:ln w="9360">
            <a:solidFill>
              <a:srgbClr val="0d500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893c"/>
                </a:solidFill>
                <a:latin typeface="Arial"/>
              </a:rPr>
              <a:t>Домой: </a:t>
            </a:r>
            <a:r>
              <a:rPr b="1" lang="en-US" sz="4000" spc="-1" strike="noStrike">
                <a:solidFill>
                  <a:srgbClr val="19893c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19893c"/>
                </a:solidFill>
                <a:latin typeface="Arial"/>
                <a:ea typeface="Arial"/>
              </a:rPr>
              <a:t>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276720" y="5445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. Л.Н. Боголюб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i"/>
          <p:cNvPicPr/>
          <p:nvPr/>
        </p:nvPicPr>
        <p:blipFill>
          <a:blip r:embed="rId1"/>
          <a:stretch/>
        </p:blipFill>
        <p:spPr>
          <a:xfrm>
            <a:off x="5724360" y="404640"/>
            <a:ext cx="2376720" cy="17290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pic>
        <p:nvPicPr>
          <p:cNvPr id="52" name="Picture 11" descr="33 Турнир иени Лосоносова"/>
          <p:cNvPicPr/>
          <p:nvPr/>
        </p:nvPicPr>
        <p:blipFill>
          <a:blip r:embed="rId2"/>
          <a:stretch/>
        </p:blipFill>
        <p:spPr>
          <a:xfrm>
            <a:off x="971640" y="333360"/>
            <a:ext cx="2087640" cy="19162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sp>
        <p:nvSpPr>
          <p:cNvPr id="53" name="Text Box 12"/>
          <p:cNvSpPr/>
          <p:nvPr/>
        </p:nvSpPr>
        <p:spPr>
          <a:xfrm>
            <a:off x="2571840" y="602136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5008"/>
                </a:solidFill>
                <a:latin typeface="Arial"/>
              </a:rPr>
              <a:t>Учитель: Руденко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бщеобразовате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учреждения началь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реждения основ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ациональная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л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чебно-воспитательны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Экстер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начальная школа.jpg"/>
          <p:cNvPicPr/>
          <p:nvPr/>
        </p:nvPicPr>
        <p:blipFill>
          <a:blip r:embed="rId1"/>
          <a:stretch/>
        </p:blipFill>
        <p:spPr>
          <a:xfrm>
            <a:off x="5867280" y="3573360"/>
            <a:ext cx="3025800" cy="29448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(полного)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школа с углубленным изучением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и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шк. с у.jpg"/>
          <p:cNvPicPr/>
          <p:nvPr/>
        </p:nvPicPr>
        <p:blipFill>
          <a:blip r:embed="rId1"/>
          <a:stretch/>
        </p:blipFill>
        <p:spPr>
          <a:xfrm>
            <a:off x="4859280" y="2205000"/>
            <a:ext cx="3889440" cy="29131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Школа с угл.jpg"/>
          <p:cNvPicPr/>
          <p:nvPr/>
        </p:nvPicPr>
        <p:blipFill>
          <a:blip r:embed="rId2"/>
          <a:stretch/>
        </p:blipFill>
        <p:spPr>
          <a:xfrm>
            <a:off x="468360" y="3789360"/>
            <a:ext cx="4279680" cy="2543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ое общее образование обяз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708360" y="1599840"/>
            <a:ext cx="5184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школа.jpg"/>
          <p:cNvPicPr/>
          <p:nvPr/>
        </p:nvPicPr>
        <p:blipFill>
          <a:blip r:embed="rId1"/>
          <a:stretch/>
        </p:blipFill>
        <p:spPr>
          <a:xfrm>
            <a:off x="395280" y="2133720"/>
            <a:ext cx="3240000" cy="3743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f9fabc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5600a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оссии устанавливаются следующие уровни профессионального  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700280"/>
            <a:ext cx="8147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ьн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ш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вузовск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Учреждения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начальн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ессиональны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чески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4" descr="профлбразование.jpg"/>
          <p:cNvPicPr/>
          <p:nvPr/>
        </p:nvPicPr>
        <p:blipFill>
          <a:blip r:embed="rId1"/>
          <a:stretch/>
        </p:blipFill>
        <p:spPr>
          <a:xfrm>
            <a:off x="1604880" y="1230480"/>
            <a:ext cx="5934240" cy="3939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2" descr="ПТУ.jpg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высш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каде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федеральный 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послевузовск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 повышения квалификации по отрас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2" descr="Лекция.jpg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2" descr="Об образовании.jpg"/>
          <p:cNvPicPr/>
          <p:nvPr/>
        </p:nvPicPr>
        <p:blipFill>
          <a:blip r:embed="rId1"/>
          <a:stretch/>
        </p:blipFill>
        <p:spPr>
          <a:xfrm>
            <a:off x="1047600" y="874800"/>
            <a:ext cx="7048800" cy="46512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5008"/>
                </a:solidFill>
                <a:latin typeface="Arial"/>
              </a:rPr>
              <a:t>Нормативная осн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бразование продекларировано в статье 26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общей декларации прав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креплено в статьях 13 и 14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ого пакта об экономических, социальных и культурных прав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татьях 28 и 29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венции о правах ребё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статье 2 Первого протокола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вропейской Конвенции о защите прав человека и основных свобо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реплено в статье 43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ституции Ро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31-3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2" descr="послевузовское образование.jpg"/>
          <p:cNvPicPr/>
          <p:nvPr/>
        </p:nvPicPr>
        <p:blipFill>
          <a:blip r:embed="rId1"/>
          <a:stretch/>
        </p:blipFill>
        <p:spPr>
          <a:xfrm>
            <a:off x="826920" y="907920"/>
            <a:ext cx="7705800" cy="4608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4" descr="Гранты на обрахование.jpg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типы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31-2"/>
          <p:cNvPicPr/>
          <p:nvPr/>
        </p:nvPicPr>
        <p:blipFill>
          <a:blip r:embed="rId1"/>
          <a:stretch/>
        </p:blipFill>
        <p:spPr>
          <a:xfrm>
            <a:off x="611280" y="620640"/>
            <a:ext cx="8064360" cy="5545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2" descr=""/>
          <p:cNvPicPr/>
          <p:nvPr/>
        </p:nvPicPr>
        <p:blipFill>
          <a:blip r:embed="rId1"/>
          <a:stretch/>
        </p:blipFill>
        <p:spPr>
          <a:xfrm>
            <a:off x="633240" y="2487600"/>
            <a:ext cx="7877520" cy="140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о ст. 43 Конституции РФ, каждый имеет право на образ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11280" y="1557360"/>
            <a:ext cx="67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   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Конституция РФ.jpg"/>
          <p:cNvPicPr/>
          <p:nvPr/>
        </p:nvPicPr>
        <p:blipFill>
          <a:blip r:embed="rId1"/>
          <a:stretch/>
        </p:blipFill>
        <p:spPr>
          <a:xfrm>
            <a:off x="324000" y="2060640"/>
            <a:ext cx="1944360" cy="3375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836280"/>
            <a:ext cx="590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З Об образовании.jpg"/>
          <p:cNvPicPr/>
          <p:nvPr/>
        </p:nvPicPr>
        <p:blipFill>
          <a:blip r:embed="rId1"/>
          <a:stretch/>
        </p:blipFill>
        <p:spPr>
          <a:xfrm>
            <a:off x="179280" y="1125360"/>
            <a:ext cx="2376720" cy="42469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спит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уч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Формы получения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чно-заочной (вечерней)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за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в форме семейного образования (с 1992г.), самообразования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экстер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ние годы интенсивно развивается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дистанционное образова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кается сочетание различных форм получения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2" descr="образование.png"/>
          <p:cNvPicPr/>
          <p:nvPr/>
        </p:nvPicPr>
        <p:blipFill>
          <a:blip r:embed="rId1"/>
          <a:stretch/>
        </p:blipFill>
        <p:spPr>
          <a:xfrm>
            <a:off x="0" y="476280"/>
            <a:ext cx="3816360" cy="5564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Саморазвитие личности.jpg"/>
          <p:cNvPicPr/>
          <p:nvPr/>
        </p:nvPicPr>
        <p:blipFill>
          <a:blip r:embed="rId2"/>
          <a:stretch/>
        </p:blipFill>
        <p:spPr>
          <a:xfrm>
            <a:off x="3924360" y="476280"/>
            <a:ext cx="4680000" cy="5832360"/>
          </a:xfrm>
          <a:prstGeom prst="rect">
            <a:avLst/>
          </a:prstGeom>
          <a:ln w="9360">
            <a:solidFill>
              <a:srgbClr val="19893c"/>
            </a:solidFill>
            <a:miter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Типы образовательных учреждений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d5008"/>
                </a:solidFill>
                <a:uFillTx/>
                <a:latin typeface="Arial"/>
              </a:rPr>
              <a:t>Дошко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ед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я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ет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Детский сад.jpg"/>
          <p:cNvPicPr/>
          <p:nvPr/>
        </p:nvPicPr>
        <p:blipFill>
          <a:blip r:embed="rId1"/>
          <a:stretch/>
        </p:blipFill>
        <p:spPr>
          <a:xfrm>
            <a:off x="3635280" y="2205000"/>
            <a:ext cx="4969080" cy="388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Общее образование</a:t>
            </a:r>
            <a:br>
              <a:rPr sz="4000"/>
            </a:b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 включает в себя три ступен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чальное образование —  с 1 по 4 клас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сновное  общее образование —  с 5 по 9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еднее (полное) общее образование —10 и 11 класс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должительность обучения в средней школе составляет 11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6:14:59Z</dcterms:created>
  <dc:creator>www.PHILka.RU</dc:creator>
  <dc:description/>
  <dc:language>en-US</dc:language>
  <cp:lastModifiedBy>LEGION</cp:lastModifiedBy>
  <dcterms:modified xsi:type="dcterms:W3CDTF">2015-01-28T11:40:35Z</dcterms:modified>
  <cp:revision>29</cp:revision>
  <dc:subject/>
  <dc:title>Тема урока: «Право на образование»</dc:title>
</cp:coreProperties>
</file>